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2D94-E16D-4A2B-8A75-0736F1781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6530-D8BC-4607-BCBA-226442D0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311-2B11-493B-AD27-D08F7032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8B8-C2A9-415A-A329-DAA20FAA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0D21-077D-4A1C-A30D-45780F53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3D9-00EB-447D-9922-3EC5D3B0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52E1-2D68-4F59-BD2E-99B3B0B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E3A-320E-4B9B-94DB-9FA0C1CB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2034-5B07-41BB-B9B2-80419B53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A295-C7DF-4A7D-A802-7186A92B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999-2549-49E9-AE08-D3DE091A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58F5-02A6-4AB9-A177-79AE0544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C51-DB10-4F29-9A47-C37B2841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A61-A61B-4752-A153-B0366B22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94D-17BD-4D4C-AA5D-A8BD00D02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 momento, a permissão para esta apresentação está restrita. Se você não estiver executando o Microsoft Office 2003 ou um aplicativo que ofereça suporte a apresentações com permissão restrita, você poderá ler essa apresentação baixando o Complemento do Rights Management para o Internen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6-11-18T02:26:25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